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5999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D13-B7B8-4F93-A8FF-A068CAC2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11341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0000" y="3964320"/>
            <a:ext cx="11341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9F6-AAA0-4802-9607-D8C06C32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1480" y="160020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0000" y="396432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1480" y="396432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81B-20D8-402A-9B98-7DC1B761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36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4360" y="1600200"/>
            <a:ext cx="36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8720" y="1600200"/>
            <a:ext cx="36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0000" y="3964320"/>
            <a:ext cx="36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4360" y="3964320"/>
            <a:ext cx="36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98720" y="3964320"/>
            <a:ext cx="36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6EF-DFDB-469B-8652-65E42163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0000" y="1600200"/>
            <a:ext cx="11341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CD2-B269-4FD4-A0C4-F8255F7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1134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543-E539-40A7-951E-9C212BC1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553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1480" y="1600200"/>
            <a:ext cx="553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761-6704-499D-8A56-B423FD77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2EC-C23D-4ED1-8F5A-0714BD1D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0000" y="274320"/>
            <a:ext cx="1134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5AF-041A-4798-87AD-56D7AC19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1480" y="1600200"/>
            <a:ext cx="553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0000" y="396432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8A9-64FC-4FC5-B386-6AE1DCD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553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1480" y="160020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1480" y="396432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C44-6F2F-4C9E-BC3E-35DE4CC8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1480" y="1600200"/>
            <a:ext cx="553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0000" y="3964320"/>
            <a:ext cx="11341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C64-A78F-4272-99E0-1330ADFC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000" y="1600200"/>
            <a:ext cx="1134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99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30960" y="6244920"/>
            <a:ext cx="294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70C7-8121-47AF-B1EB-4ADD08DD4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1160" y="0"/>
            <a:ext cx="1023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44280" y="2130120"/>
            <a:ext cx="10712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90720" y="3886200"/>
            <a:ext cx="882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1215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1134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1215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0000" y="274320"/>
            <a:ext cx="113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0000" y="1600200"/>
            <a:ext cx="1134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1215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2:23:51Z</dcterms:created>
  <dc:creator>SISTEMAS04</dc:creator>
  <dc:description/>
  <dc:language>en-US</dc:language>
  <cp:lastModifiedBy>SISTEMAS04</cp:lastModifiedBy>
  <dcterms:modified xsi:type="dcterms:W3CDTF">2007-02-01T22:36:04Z</dcterms:modified>
  <cp:revision>4</cp:revision>
  <dc:subject/>
  <dc:title>Diapositiva 1</dc:title>
</cp:coreProperties>
</file>